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AA6-8040-4DDA-BBDF-83D8DC40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40A-8AD9-4087-8323-C34C960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0F0-D565-4A3E-9D9C-7D16A543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B76-91CA-43D1-81D3-EC43C160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6A1-935C-435C-8F15-6F2A09EC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89E-ABA3-4515-8388-F43169A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16A-40F1-4BAC-9CF7-55E4C18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642-2596-4D84-87C5-42F34A5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2E6-7439-437B-91D0-C1D3C8E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F9A-8A0F-45D3-AF19-43BD706F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27E6-47F5-4018-9649-D2C7802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FE5-0257-4C75-9AA2-E7ED103F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634-A1FD-4A9C-9EF4-94944782817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ozelka.jiri@gmail.com" TargetMode="External"/><Relationship Id="rId2" Type="http://schemas.openxmlformats.org/officeDocument/2006/relationships/hyperlink" Target="mailto:karelk77@googlemail.com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14920" y="2954160"/>
            <a:ext cx="315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1190 Úvod do biofyz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zimní semestr 20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50920" y="4587840"/>
            <a:ext cx="8893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uč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f. Jiří Kozelka, Ústav fyziky kondenzovaných látek, PřF MU, Kotlářská 2,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zelka.jiri@gmail.co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720 379 3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Karel Kubíček, PhD, Ústav fyziky kondenzovaných látek, PřF MU,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relk77@gmail.com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5449 49 3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OPVK_hor_zakladni_logolink_RGB_cz"/>
          <p:cNvPicPr/>
          <p:nvPr/>
        </p:nvPicPr>
        <p:blipFill>
          <a:blip r:embed="rId3"/>
          <a:stretch/>
        </p:blipFill>
        <p:spPr>
          <a:xfrm>
            <a:off x="1476360" y="333360"/>
            <a:ext cx="64087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95280" y="189000"/>
            <a:ext cx="848052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Fotosy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za: jaký je molekulární mechanismus syntézy cukrů z CO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871800" y="3000240"/>
            <a:ext cx="1400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3871800" y="3000240"/>
            <a:ext cx="1400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photosynthesis_molecular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229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photosynthesis"/>
          <p:cNvPicPr/>
          <p:nvPr/>
        </p:nvPicPr>
        <p:blipFill>
          <a:blip r:embed="rId2"/>
          <a:stretch/>
        </p:blipFill>
        <p:spPr>
          <a:xfrm>
            <a:off x="468360" y="3500280"/>
            <a:ext cx="30956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5219640" y="3284640"/>
            <a:ext cx="31719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95280" y="189000"/>
            <a:ext cx="84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. Jak detekují naše smysly světelné, zvukové, hmatové vjemy, a jak jsou tyto vjemy přeměňovány na elektrické impulz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95280" y="5661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Komplexní anatomické experimenty, spektroskopická, akustická, elektrická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mechanická měření, studie fotochemických reakcí a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eye_anat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341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vis_curv"/>
          <p:cNvPicPr/>
          <p:nvPr/>
        </p:nvPicPr>
        <p:blipFill>
          <a:blip r:embed="rId2"/>
          <a:stretch/>
        </p:blipFill>
        <p:spPr>
          <a:xfrm>
            <a:off x="4381560" y="1916280"/>
            <a:ext cx="476244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upt.png"/>
          <p:cNvPicPr/>
          <p:nvPr/>
        </p:nvPicPr>
        <p:blipFill>
          <a:blip r:embed="rId1"/>
          <a:stretch/>
        </p:blipFill>
        <p:spPr>
          <a:xfrm>
            <a:off x="108000" y="3067200"/>
            <a:ext cx="3274920" cy="151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ibp.png"/>
          <p:cNvPicPr/>
          <p:nvPr/>
        </p:nvPicPr>
        <p:blipFill>
          <a:blip r:embed="rId2"/>
          <a:stretch/>
        </p:blipFill>
        <p:spPr>
          <a:xfrm>
            <a:off x="36360" y="3240"/>
            <a:ext cx="4291200" cy="307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fi_CBIA.png"/>
          <p:cNvPicPr/>
          <p:nvPr/>
        </p:nvPicPr>
        <p:blipFill>
          <a:blip r:embed="rId3"/>
          <a:stretch/>
        </p:blipFill>
        <p:spPr>
          <a:xfrm>
            <a:off x="179280" y="5699160"/>
            <a:ext cx="75963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eitec.png"/>
          <p:cNvPicPr/>
          <p:nvPr/>
        </p:nvPicPr>
        <p:blipFill>
          <a:blip r:embed="rId4"/>
          <a:stretch/>
        </p:blipFill>
        <p:spPr>
          <a:xfrm>
            <a:off x="4572000" y="260280"/>
            <a:ext cx="4441680" cy="4273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vuvel.png"/>
          <p:cNvPicPr/>
          <p:nvPr/>
        </p:nvPicPr>
        <p:blipFill>
          <a:blip r:embed="rId5"/>
          <a:stretch/>
        </p:blipFill>
        <p:spPr>
          <a:xfrm>
            <a:off x="179280" y="4653000"/>
            <a:ext cx="75754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913040" y="765000"/>
            <a:ext cx="48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zkumné p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ojekty Biofyzi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lní laboratoře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8320" y="1773360"/>
            <a:ext cx="910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ruktur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 studie interakcí mezi protinádorovými komplexy platiny a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opravného systému MMR při protinádorovém efektu komplexů plat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tudium interakce proteinu (tubulinu) s protinádorovým léčiv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tudium interakce proteinu s nukleovými kyselinami pomocí NMR a A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Studium vlastností membrán pomocí AFM a Langmui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Blodgettové vani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782440" y="119700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physics.muni.cz/biophy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qrcode.png"/>
          <p:cNvPicPr/>
          <p:nvPr/>
        </p:nvPicPr>
        <p:blipFill>
          <a:blip r:embed="rId1"/>
          <a:stretch/>
        </p:blipFill>
        <p:spPr>
          <a:xfrm>
            <a:off x="2411280" y="2060640"/>
            <a:ext cx="3934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urity.pn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3805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2987640" y="4110120"/>
            <a:ext cx="460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79280" y="52293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vováním programu biofyziky nezískáte “výuční list” zabezpečující doživotní zaměstnání, uplatnění si musí nalézt každý s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roductive_collisions_ThomCech.png"/>
          <p:cNvPicPr/>
          <p:nvPr/>
        </p:nvPicPr>
        <p:blipFill>
          <a:blip r:embed="rId1"/>
          <a:stretch/>
        </p:blipFill>
        <p:spPr>
          <a:xfrm>
            <a:off x="1116000" y="131760"/>
            <a:ext cx="69152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59280" y="47628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Co je biofyzi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1125360"/>
            <a:ext cx="878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ophysics (also biological physics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interdisciplinary science that employs and develops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theories and method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f the physical sciences for the investigation of biological system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...</a:t>
            </a:r>
            <a:br>
              <a:rPr sz="1800"/>
            </a:b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en.wikipedia.org/wiki/Biophysic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the application of physical principles and methods to the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stud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f the structures of living organisms and the mechanics of life processes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hss.energy.gov/HealthSafety/ohre/roadmap/achre/glossary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at branch of knowledge that applies the principles of physics and chemistry and the methods of mathematical analysis and computer modeling to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understan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w biological systems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biophysics.org/tabid/517/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interdisciplinary field which applies techniques from the physical sciences to understanding biological structure and function at the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molecular level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ww.britishbiophysics.org.uk/what-is/what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26920" y="1484280"/>
            <a:ext cx="1657440" cy="28728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826920" y="5013360"/>
            <a:ext cx="1657440" cy="287280"/>
          </a:xfrm>
          <a:prstGeom prst="rect">
            <a:avLst/>
          </a:prstGeom>
          <a:noFill/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477080" y="260280"/>
            <a:ext cx="46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cc"/>
                </a:solidFill>
                <a:latin typeface="Arial"/>
              </a:rPr>
              <a:t>Biofyzika je mezioborová vě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24000" y="981000"/>
            <a:ext cx="86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é otázky v živých přírodních oborech a lékařských vědách se čím dál častěji řeší na molekulární úrov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MR / MRI / 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ray /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ltrazv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ová mik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M / 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brační spektroskopie (Raman, I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očetní metody (molekulová dynamika, coarse-grain modeling, kvantová chemie, molekulová mechanika, at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foré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lorime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munofluorescenční mikroskop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f you want to find the secrets of the univer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hink in terms of energy, frequency and vibra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kola Tes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0" y="18900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labus předná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1: (17.09. Karel Kubíček): Co je biofyzika? Vymezení oblasti studia/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2: (24.09. Jiří Kozelka): Nejvýznamější biogenní prvky – stručná chemická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istika (oxidační čísla, vazebné úhly, izotopy,hybridiz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3: (01.10. Jiří Kozelka): Vazba x slabé interakce I (van der Waals, London, disperzní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díkový můstek, typické vzdálenosti, energie, úhly. Kovalentní vazba 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olekul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4: (08.10. Jiří Kozelka): Vazba x slabé interakc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5: (15.10. Karel Kubíček): Peptidová vazba, mezivazebné úhly, dihedrální úhly, rov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6: (22.10. Karel Kubíček): Prote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7: (29.10. Karel Kubíček): Nukleové kyse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8: (05.11. Karel Kubíček): Lipidy &amp; membr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09: (12.11. Karel Kubíček): Membrány &amp; pum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0: (19.11. Karel Kubíček): Buň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1: (26.11. Arnošt Mládek): Svět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2: (03.12. Jiří Kozelka): Dynamika biomolek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3: (10.12. Vojtěch Mornstein): Lékařská biofy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4: (17.12. Karel Kubíček, Dušan Hemzal): Příklady ke kolokv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84360" y="33984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Svinování proteinů: Proteiny jsou řetězce složené z pouze 20 druhů aminokyselin. Jak je možné vytvořit z jen 20 monomerů polymery s tak rozmanitou strukturou a s tak různými funkcem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prostorové struktury proteinů pomocí spektroskopických metod (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absorpční spektrofotometrie, cirkulární dichroismus, vibrační spektroskopie, NMR, EPR 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pro paramagnetické proteiny</a:t>
            </a:r>
            <a:r>
              <a:rPr b="0" lang="de-CH" sz="1800" spc="-1" strike="noStrike">
                <a:solidFill>
                  <a:srgbClr val="ff0000"/>
                </a:solidFill>
                <a:latin typeface="Arial"/>
              </a:rPr>
              <a:t>], molekulov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é model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260px-DNA_polymerase"/>
          <p:cNvPicPr/>
          <p:nvPr/>
        </p:nvPicPr>
        <p:blipFill>
          <a:blip r:embed="rId1"/>
          <a:stretch/>
        </p:blipFill>
        <p:spPr>
          <a:xfrm>
            <a:off x="2627280" y="2565360"/>
            <a:ext cx="3301920" cy="3289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4"/>
          <p:cNvSpPr/>
          <p:nvPr/>
        </p:nvSpPr>
        <p:spPr>
          <a:xfrm>
            <a:off x="1194480" y="6521400"/>
            <a:ext cx="70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truktura fragmentu lids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é DNA-polymerazy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ázající DNA. (pdb kód 7IG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79280" y="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Replikace D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m mechanismem se při dělení buňky vytvoří z nesmírně dlouhé dvojité šroubovice DNA (u člověk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 m) dvě nové identické dvojité šroubov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narep"/>
          <p:cNvPicPr/>
          <p:nvPr/>
        </p:nvPicPr>
        <p:blipFill>
          <a:blip r:embed="rId1"/>
          <a:stretch/>
        </p:blipFill>
        <p:spPr>
          <a:xfrm>
            <a:off x="2268360" y="981000"/>
            <a:ext cx="3305520" cy="379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324000" y="5084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y studia: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rganická syntéza (k manipulaci DNA, modifikaci bazí, značkování nukleotidů radioaktivními prvky  atd.), gelová elektroforéza, spektroskopické metody, měření kinetiky reakcí, metody k oddělení frakce DNA z buněčných extraktů (např. ultracentrifug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879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260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vin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ní R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J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možné, že molekula RNA, disponující pouze čtyřmi stavebními prvky (nukleotidy s bázemi  guanin, adenin, cytosin, uracil) dokáže vytvořit rozmanité 3D-struktury a plnit celou řadu funkcí v buňce (přenos informace z DNA do ribosomu, katalýza štěpných reakcí za účasti kovových kationtů v tzv. ribozymech...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24000" y="511812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y studia: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Organická syntéza (k manipulaci RNA, modifikaci bazí, značkování nukleotidů radioaktivními prvky  atd.), gelová elektroforéza, spektroskopické metody, měření kinetiky reakcí, metody k oddělení frakce DNA z buněčných extraktů (ultracentrifugace), metody anorganické chemie ke studiu role kovových kationtů coby kofaktorů a při prostorovém sbalování 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RNA-Phe-mini"/>
          <p:cNvPicPr/>
          <p:nvPr/>
        </p:nvPicPr>
        <p:blipFill>
          <a:blip r:embed="rId1"/>
          <a:stretch/>
        </p:blipFill>
        <p:spPr>
          <a:xfrm>
            <a:off x="2987640" y="1844640"/>
            <a:ext cx="28782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6:50:31Z</dcterms:created>
  <dc:creator>Jiri Kozelka</dc:creator>
  <dc:description/>
  <dc:language>en-US</dc:language>
  <cp:lastModifiedBy>Karel Kubicek</cp:lastModifiedBy>
  <dcterms:modified xsi:type="dcterms:W3CDTF">2013-09-17T09:02:51Z</dcterms:modified>
  <cp:revision>113</cp:revision>
  <dc:subject/>
  <dc:title>Diapositive 1</dc:title>
</cp:coreProperties>
</file>